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C3B9-6F1F-4A94-BBB0-634ABF1B5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5C5F-BFE4-46C6-B865-C2F1BE58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622EC9-56DF-488C-84BB-DE7210E1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51960B-612D-4999-B1CA-455AEADA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D5D54-392D-4394-BED8-45632C47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34824-53D9-41CD-ADC0-63CAB3D5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17B2E9-049E-4A3F-8096-8F0CC7D3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9E890-84D1-4AF8-B693-8A0622E3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63748D-2500-4800-850C-3A399F21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A8E546-FF2F-43F3-A181-018FF1451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E066E9-F8C8-40CA-A6AA-0D0263B37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B2F118-B4FA-438C-8082-66DC53C93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0260-490D-438D-9644-3F1044786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C561A4-B431-4539-A5F7-CC801641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092948-BCF3-422E-962F-0766C77A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DB7FDB-612C-4C7D-B668-E7982378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11D320-5EB1-48EB-B440-78E95FE0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965700-957E-476E-B177-EF5E14FE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5C9945-BF3E-45C0-B4E7-393D7981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03A46B-0CB7-498B-B85C-03A07590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3ACD13-855B-447A-8096-3C11CF66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BD9529-165B-40FE-928C-BE9DA372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52AD5E-857C-472D-AEBE-A9137B73B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A248-C588-4C46-ADB7-D62E71371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351221-57FA-4B26-99C9-D00BC2623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9D80C2-DACB-4A0D-8D0F-19F2BA5D7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EEEA17-68A1-4D82-B09F-FEFB06C1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9367D2-B0AC-4D84-9ED1-8E0BA68F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45805E-43B8-4885-A7D4-FB1E116A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BA200A-5DE5-47AC-8CA0-98C003D0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2144A3-57EB-41C5-B084-EC90D85D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509A8-C3CB-4EBA-B437-535E31AC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272898-D0DC-409D-B19D-A1EB908D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382F9D-EE62-4944-944F-653AA6BA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AD69E-6E8C-423F-B372-E61BFFF81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D0FA2-45D7-4654-B26E-E8545F15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BAD07-CBFB-40C2-96B1-7DA866C1C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B1F4E-355E-422A-9DD2-4A5F97D55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6F789E-C190-48C3-AAF8-4089EAA56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EE5DE4-A13E-4DC6-B06E-AD310110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38A690-CE40-4D42-AB06-2D856BEE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3DA2BB-351C-41EA-AFCC-DA500378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FDBC4C-6FF5-41D2-8045-C398840F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3649C9-03BA-496F-9C6B-591B1983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C4A390-B549-46F5-AFE4-214D7D3C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D1098-B64A-4B41-B82E-8AEAED7D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3C49E6-CEE8-4ACA-8FE3-E7127E84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467DBE-2055-47F4-8A99-F77986A3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A73E3C-1881-4152-93C0-8E7F3906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ED7B06-5A90-41F4-AC5B-62684FBFF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113443-AB79-416B-BD79-16ACFD377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754A76-9A03-48F2-8D5E-9F3A7E8B6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E35273-ED3D-4B16-A8F8-6CDA1802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1C9C52-C554-442C-8499-2A6C4A6D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B5E18A-3EA2-45F6-ADFC-37376A83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266DBD-413F-401A-A263-0EBFDBD4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B3174-ACC7-43F5-AAB8-E5C98256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CE20DD-7559-49DE-B1F9-081C0855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CBD17F-E01A-4342-ACCB-71904B0C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ADFA0B-58D0-4BE9-BC3D-B6A3A02A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C6CC5D-C73D-4129-B145-12EB7523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3A45A4-3CD6-4D02-A87D-6D6F979D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B196EE-A741-4E33-BF2F-32ACEE3DD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723DE5-EA46-44C7-B5EB-1EFC43AD1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7C0BC1-C83C-48B4-8EBD-3E8AE2D37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103C6C-A275-4BAC-A934-DCA32957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9D7E48-9DEC-40E1-89E2-8155C761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E87B-7B31-483F-84AE-5F682D89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8977D0-BC74-4CA0-851E-5DDA4883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0AB88D-1BED-441D-86E8-B47814E8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39A204-FA95-475A-9233-F4C589E8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BD93E8-09EF-4A74-996A-245825B8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397869-27DD-4CEE-BAF3-A3D63669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323832-44EF-4BE5-9DE2-4292B83C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8083C2-A4DB-43B8-9CCA-1EDF9CC3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D15B6C-B027-40C1-A54E-0244F3D8A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BDD609-E274-4491-BBC3-0FA418281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8C6480-AEEE-44D6-9B5C-1D85AB1BC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1CF6-598D-4658-89A2-46D14D89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AF3B76-E82D-45A9-AD1B-0F66F821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9340F6-9E92-42B1-916B-215372BB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119268-D794-48B2-85C5-72C5BC15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38F8D2-282A-466E-A094-3C222534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2E991D-DC8E-4296-8B55-454D6310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ED0DED-7934-45DA-9349-D2671FEF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2B844C-837B-43FB-90AE-58F2A01F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1A2B1E-5F99-4D0F-99B6-8952F915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9FBE19-3B97-46E1-91F9-ACDFEF9B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16E536-AF57-4588-AB5F-2CDFFD095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875D-8BF1-4BCC-B8B1-DEECA1A4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756C87-A972-4744-B057-2A2F6C5E4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B4FC14-7238-4BEA-AC10-2F3071A19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BB9EDF-CF8D-4881-BF71-D77C4F0F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20AB4A-1C7E-428B-9B9F-8A7DB55B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52AFD2-7CF8-4D18-BC6C-F932B291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E5EDEB-F563-48BF-B2C6-68711768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956656-1F88-46B7-A6DA-64C21478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1D61F7-D8CA-4D81-AB5E-1A317DF6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170928-820B-4D61-B8DF-AA92F318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3363BC-B4BF-4E15-B29D-8FC9BBCC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B7833-44F8-4E05-8451-F7FCB84C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7CFD90-E158-46DF-8AFA-9BEB7396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FF44AA-F415-4BCC-B0D8-06076DBC3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BA54A1-14CC-4F37-B607-1184A893E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DB85FD-3AAB-45B8-9E85-F92B02F63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3D5E25-A960-47E8-80CA-CE2AEE7E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30740E-BEBD-4708-9318-3F3E4DF8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FFA86F-CC5E-46EA-ABD6-1707FE9C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B97435-C189-4597-9A28-700D5F52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2E02BD-9010-4BC8-97CA-DCA31B7C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79FEBA-0451-4B19-A687-9614F55B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5690-9DF4-4B3E-9002-1850D28A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56D8-6988-41D8-8933-820F7413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1637B2-F489-47D3-8440-4C90F767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124426-BDE5-4A01-B271-9ABA9A9F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DA16A7-F7F9-422F-96B1-B3FDD096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CD425E-2D49-4531-BC5D-518947191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0F4B77-EC75-47B2-9ACF-4FD3E510A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4533EE-EC04-462B-AA53-F5C4B32C4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3C0780-9698-46FC-A396-06BCC161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D07C6A-AFE4-4C0C-948A-FD6324CC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5EE51F-82A5-41FA-91AF-3E08993B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494993-396F-47CA-9C5D-256CDEB9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3BDA4-BC85-4F61-B1B1-040BAEE2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A55750-A7FB-407D-8204-4346119B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CDE7CD-6D0B-49D1-850E-4860B146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5E0953-17C5-4DD3-BBD0-2EE01091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72CD21-AEF3-4037-BDE6-3DED1368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2C4164-B852-41D7-AC8B-A0E6A4B6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4E348A-CBA6-4B68-85CB-B61B8E4BE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1C7ADC-1509-4C78-BEB8-84FDC94FB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CFB150-9FEF-4D16-9D39-8AE6DFA8C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6A496C-0072-4AF4-800F-655D3BD1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56AB1E-C1BB-441F-BC9B-A35A0EF4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8DC14-4967-446F-AB65-899EF2C7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46A15C-458C-4411-8EC4-D6698957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FE7A08-CC62-4AD1-BF16-93D276FB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140428-10EF-4B56-AED4-F7932083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8D0685-AA9F-4FEA-A975-2C247C96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7C3470-01C3-4A14-B544-D1C92C45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D1F08A-4D34-40B6-85D8-BAB535B2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0CAF3A-492A-450A-A03D-EFFA4862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23010D-5B22-4015-B514-693A84B72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BA986B-35EF-43D6-B517-844660412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51A5BF-3A51-4CEB-90CF-5FB61A3B2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598C-2179-4C5F-A57D-F8E967006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EC99B5-13F3-4186-B73E-5FC01E06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7D041B-0C2B-4AD3-AEB4-D649CE09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0A80B1-3F9C-49DA-BF70-7931A09B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245575-7C96-4530-83C7-03EE9061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61BD02-0732-41DA-8DA1-CA7DB241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6A7479-FBE8-4DAE-811C-2A22FD46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5F758B-289F-4A0C-A819-6C8ACA30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472E79-5C32-463F-BFB9-939B92D7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627949-6A13-4FFA-A2FA-0BE52265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A4A98B-1BA8-4085-996B-7DA67E6E4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018C-E167-449F-BD06-D745F93E9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C03DCB-034E-44BC-AE82-0E348B20C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EB55FC-B9BA-4AD2-99C7-FCEB3A1CB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DC1F27-5628-4920-B534-069D0AC8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0FA8EB-D73C-4F75-A635-DAF16E43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EC452F-7C77-4CD0-8E62-18D87983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54FF91-A4D9-411F-A2D9-0F417056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51E9C1-BBFE-423D-9208-ADA27B74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C838AF-9899-47E6-9202-1B2D2F73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E564DF-5D05-4BAE-B8F1-B576347F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62B457-B3F6-4A9A-B240-C541BAE6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55619-D9AE-42C2-ADCF-7F29EF58F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6E7CE2-1A9A-4020-8D4C-9AE41F51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69883C-19FF-4374-B73D-D2EF95001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DC65EF-C5C2-4453-B2F7-EC768C954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719D1-76D5-4AAD-8ADE-E12343DB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2CA04-ADC5-44B1-8E6F-615FDB82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5A2DE-3D9C-4076-B38D-5BD93C5E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111E6-1A26-4E7C-A08E-7C181775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349C-3F4E-4583-97C5-7DB5B97B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72E36-CE12-45E2-B8F3-F712A4C7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B5BF9-C816-4BAE-A3E0-03ACC40A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D1D1A-5F91-4067-807B-65FCA2D6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C9392-7190-4409-81E8-F6291356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7CAF1-1B1E-4DBC-A7A1-8C617E86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A0475-3A5C-4B6F-BF0F-2F9B04A65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5277B-9105-41ED-AF6D-C4B5983E6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5A919-37BF-4421-9ED7-BBB2BE07C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DEC9F-3EE5-4350-8BF0-DDB3DD31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47A58-0962-46C5-934B-5B37A70E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9BE3-3B83-4571-8B1D-ECEEA2A0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0DCA4-1FBA-4F89-B247-0AD5282A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F1620-F533-46A3-9A46-79B0AD04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C1A22-56D4-4763-917F-91E3993D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C765D-A1CC-40D0-A57F-049FE220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842DC-CF35-4C5E-AB37-F53B4580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B0AE1-99CD-47C0-A35B-6954B439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AA547-95BE-4683-8927-10434357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64FE0-73E2-4DE7-9838-FBBE6FD5D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579D9-C305-4EA0-809F-5A293BDB6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90F80-FE45-4FC2-BDEC-2B0527B87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35E8-200A-4874-8F51-C8340DDA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42FE0-EF01-4E83-A773-C0764E5C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3C865-0D79-4CA4-B735-5C93A2FC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89EC0-56E8-4217-98E9-6093E2D0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B8919-5AB5-4C07-8B55-0163EF45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6BF5B-75B3-4B05-943F-E5555BF0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27D3E-3C06-4406-92F8-DD0EBDDE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47C17-313D-4884-B01C-89F550FB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F97C0-60E1-4743-BBB9-06789902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A518F-F600-44E7-96D9-64F7CEB1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45F9C-A71B-4222-8FAD-F335E1974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1910-81EA-471C-8E33-974447FF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37CE2-9F99-48D1-9B3D-0FF3915AF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D0592-46F0-4FE0-A9CA-4E637F249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F4041-78BE-4D31-ACE6-4B6F78D6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AE22D-693C-4693-A864-D8FAF714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6F3D7-9202-41B5-AB0D-0BF749BA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A4288-E4B0-4D9D-9BD9-3EB5426F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1399F-C5A1-456F-9BB4-B14BDD09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2E0BA-73FD-4EB9-B1D6-2E5F1B08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1C09B-E077-4680-A6AC-325AE9A6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917FE-C6E0-45F2-AF17-FAC47562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E1B7-F5E1-4E10-8595-9C4C99CF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DBDDE-E8B3-403F-A84F-E82328CA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E113F-6C45-4F97-913E-867370986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ACB43-EFDD-4EFD-B8A2-7BB6000C2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34128-A6B2-4A0D-985E-6E276362D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AE500-4EA2-476C-A247-8CED7132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9DE6A-E7FE-45EA-82DD-0A4326E9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1DFC9-4016-4AB6-B90A-08653C0F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94383-31EC-4E93-9E89-58049FCC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F4B9B-11C7-45C7-8F39-A9288271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8A6AD-D35D-4211-849B-6F236FE2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9CCF-F94F-4FBA-9516-DC3530C0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2A226-19A9-46FF-8D0D-98C702CE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1BA14-DC2A-48C5-B5E4-4F2B797C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B7567-3EFE-4A9A-8F5F-C8A3870E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807F0-AC96-4AA4-994A-8ADB1EA48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4F01E-679D-46F5-B40B-2CBE869E3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D3EAA-0B54-4F56-861F-7CEA9F62C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70987-BBF3-46DE-BECD-588A4821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B07A1-2813-4176-97A1-5D2D40B5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18679-EEDA-4618-9CF6-BF71B7A4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1CE85-73FA-41DD-B267-AE21C261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A82C-4BEA-493C-B5D2-FA59DFE6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7256F-6D98-426E-BC8D-0164DA19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4F21E-E405-4A5F-B260-E224C867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88EA2-FA87-4E25-A2C0-DEF3FE18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53528-9A5A-45B1-9A0F-93E7C3A9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BECF4-5A24-4BC1-866F-3C93104F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3434A-A12A-4FC9-98D1-39738F8A6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01771-5746-497F-91AF-CFAA76D42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AFC685-FF3E-4090-8907-E880179C9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D5D1DB-8AC6-4B06-9F73-FBD085A1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329C9F-C69E-45C9-8765-D4C3E4FD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C15F3-DCEA-4615-9674-209328BED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9A27-A304-4F55-8B0A-7502C3803D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0EDE-2150-4B4D-B40D-19FA7CEA91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FEB1-4F17-465E-9F23-9FAF1B7C23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BE05-3CE2-4D62-9C32-C0D403E01F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7A19-6DC0-43EB-B9CF-123C65A6F4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7E61-A087-4E7B-9700-2921A19D91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9F84-8303-492E-8C8A-860EFBB1F4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F60F-F9F2-4E97-9B8F-07DA672464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BAF0-1243-4B29-BA0C-5E836F9CFB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9F5D-0D6B-48DD-B691-3187A7731F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9D09-A9B1-4471-90EF-740E5920D6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84BD-BF2C-4D8A-A6D0-DCF3BC1CDF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5E8C-81D3-4B50-A27A-5D64D1441C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D6B8-338F-4B25-A277-FAE8F89251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D000-2884-41A3-B3C6-AB5C240EB9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447D-9894-4B5C-8FD1-1F6CE58C33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B01E-41D9-4085-9D11-A1B1A262ED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565F-CFEA-466B-B50D-EFF7431642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2EF8-72FB-4550-AB74-1237D4D89D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7D20-1365-4157-8F93-D8AE79E8F9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742D-8EFE-40D4-BD1E-DDB9AD8885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2475-77AA-4A43-BEA5-AF6FD8A278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5A48-67E4-4DF3-BD73-79145AB75A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1472-6E83-4658-8ADF-3291A52DB1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503B-0C71-4AE5-97B8-E3143C0C10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D443-6EC3-492A-8EA4-769DDFC052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25D1-4B57-43C4-853D-D9F5B1791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80ED-9B21-4FE1-BF85-532527D490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29C7-6C94-4B1E-92B1-B8175B8E2F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B59B-3ECA-43E3-B3D5-7CBEE1C35C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58F7-B7B1-4452-8993-570BF1F861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EEC3-4584-49BC-8FC6-64114F9CB7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1D35-713E-47F4-9136-18999A8296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1FAA-675F-4A2B-8735-5D702F952B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B908-DF87-4F8A-9DFF-FE5DA620AE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79EC-9546-4B2D-814A-9110D78B09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5385-2060-4B1F-BEA1-2CECED96AF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BD03-B134-42E9-86FD-1519BC32AD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C2D3-4ADD-4634-B675-71ACB14425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692440" y="1628640"/>
            <a:ext cx="3562200" cy="79056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2" descr=""/>
          <p:cNvPicPr/>
          <p:nvPr/>
        </p:nvPicPr>
        <p:blipFill>
          <a:blip r:embed="rId2"/>
          <a:stretch/>
        </p:blipFill>
        <p:spPr>
          <a:xfrm>
            <a:off x="952560" y="2852640"/>
            <a:ext cx="7238880" cy="819360"/>
          </a:xfrm>
          <a:prstGeom prst="rect">
            <a:avLst/>
          </a:prstGeom>
          <a:ln w="0">
            <a:noFill/>
          </a:ln>
        </p:spPr>
      </p:pic>
      <p:pic>
        <p:nvPicPr>
          <p:cNvPr id="1026" name="图片 3" descr=""/>
          <p:cNvPicPr/>
          <p:nvPr/>
        </p:nvPicPr>
        <p:blipFill>
          <a:blip r:embed="rId3"/>
          <a:stretch/>
        </p:blipFill>
        <p:spPr>
          <a:xfrm>
            <a:off x="2771640" y="4076640"/>
            <a:ext cx="381816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7" name="图片 1" descr=""/>
          <p:cNvPicPr/>
          <p:nvPr/>
        </p:nvPicPr>
        <p:blipFill>
          <a:blip r:embed="rId1"/>
          <a:stretch/>
        </p:blipFill>
        <p:spPr>
          <a:xfrm>
            <a:off x="57240" y="954000"/>
            <a:ext cx="902952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90" name="图片 1" descr=""/>
          <p:cNvPicPr/>
          <p:nvPr/>
        </p:nvPicPr>
        <p:blipFill>
          <a:blip r:embed="rId1"/>
          <a:stretch/>
        </p:blipFill>
        <p:spPr>
          <a:xfrm>
            <a:off x="1204920" y="1724040"/>
            <a:ext cx="6734160" cy="340992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1" descr=""/>
          <p:cNvPicPr/>
          <p:nvPr/>
        </p:nvPicPr>
        <p:blipFill>
          <a:blip r:embed="rId2"/>
          <a:stretch/>
        </p:blipFill>
        <p:spPr>
          <a:xfrm>
            <a:off x="1547640" y="170028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1" descr=""/>
          <p:cNvPicPr/>
          <p:nvPr/>
        </p:nvPicPr>
        <p:blipFill>
          <a:blip r:embed="rId3"/>
          <a:stretch/>
        </p:blipFill>
        <p:spPr>
          <a:xfrm>
            <a:off x="1547640" y="240336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1" descr=""/>
          <p:cNvPicPr/>
          <p:nvPr/>
        </p:nvPicPr>
        <p:blipFill>
          <a:blip r:embed="rId4"/>
          <a:stretch/>
        </p:blipFill>
        <p:spPr>
          <a:xfrm>
            <a:off x="1547640" y="30686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1" descr=""/>
          <p:cNvPicPr/>
          <p:nvPr/>
        </p:nvPicPr>
        <p:blipFill>
          <a:blip r:embed="rId5"/>
          <a:stretch/>
        </p:blipFill>
        <p:spPr>
          <a:xfrm>
            <a:off x="1547640" y="378936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1" descr=""/>
          <p:cNvPicPr/>
          <p:nvPr/>
        </p:nvPicPr>
        <p:blipFill>
          <a:blip r:embed="rId6"/>
          <a:stretch/>
        </p:blipFill>
        <p:spPr>
          <a:xfrm>
            <a:off x="1547640" y="443700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9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30" name="图片 1" descr=""/>
          <p:cNvPicPr/>
          <p:nvPr/>
        </p:nvPicPr>
        <p:blipFill>
          <a:blip r:embed="rId2"/>
          <a:stretch/>
        </p:blipFill>
        <p:spPr>
          <a:xfrm>
            <a:off x="642960" y="895320"/>
            <a:ext cx="7856640" cy="50673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3"/>
          <a:stretch/>
        </p:blipFill>
        <p:spPr>
          <a:xfrm>
            <a:off x="1619280" y="177336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4"/>
          <a:stretch/>
        </p:blipFill>
        <p:spPr>
          <a:xfrm>
            <a:off x="1692360" y="3284640"/>
            <a:ext cx="576000" cy="4492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5"/>
          <a:stretch/>
        </p:blipFill>
        <p:spPr>
          <a:xfrm>
            <a:off x="1692360" y="4724280"/>
            <a:ext cx="576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876240" y="2033640"/>
            <a:ext cx="7391520" cy="27907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1258920" y="20606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1258920" y="350028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900000" y="919080"/>
            <a:ext cx="7344000" cy="50198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2"/>
          <a:stretch/>
        </p:blipFill>
        <p:spPr>
          <a:xfrm>
            <a:off x="3492360" y="2535120"/>
            <a:ext cx="1656000" cy="4492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3"/>
          <a:stretch/>
        </p:blipFill>
        <p:spPr>
          <a:xfrm>
            <a:off x="6084720" y="2506680"/>
            <a:ext cx="1656000" cy="4492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4"/>
          <a:stretch/>
        </p:blipFill>
        <p:spPr>
          <a:xfrm>
            <a:off x="3492360" y="3255840"/>
            <a:ext cx="2087640" cy="4492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5"/>
          <a:stretch/>
        </p:blipFill>
        <p:spPr>
          <a:xfrm>
            <a:off x="6443640" y="3241800"/>
            <a:ext cx="1655640" cy="4492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6"/>
          <a:stretch/>
        </p:blipFill>
        <p:spPr>
          <a:xfrm>
            <a:off x="3348000" y="3990960"/>
            <a:ext cx="1655640" cy="4492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7"/>
          <a:stretch/>
        </p:blipFill>
        <p:spPr>
          <a:xfrm>
            <a:off x="5796000" y="3962520"/>
            <a:ext cx="1655640" cy="4492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8"/>
          <a:stretch/>
        </p:blipFill>
        <p:spPr>
          <a:xfrm>
            <a:off x="3635280" y="4710240"/>
            <a:ext cx="1728720" cy="4492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9"/>
          <a:stretch/>
        </p:blipFill>
        <p:spPr>
          <a:xfrm>
            <a:off x="6227640" y="4695840"/>
            <a:ext cx="1656000" cy="4492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10"/>
          <a:stretch/>
        </p:blipFill>
        <p:spPr>
          <a:xfrm>
            <a:off x="3708360" y="5445000"/>
            <a:ext cx="1655640" cy="4492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11"/>
          <a:stretch/>
        </p:blipFill>
        <p:spPr>
          <a:xfrm>
            <a:off x="6156360" y="5416560"/>
            <a:ext cx="165564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4" name="图片 1" descr=""/>
          <p:cNvPicPr/>
          <p:nvPr/>
        </p:nvPicPr>
        <p:blipFill>
          <a:blip r:embed="rId1"/>
          <a:stretch/>
        </p:blipFill>
        <p:spPr>
          <a:xfrm>
            <a:off x="61920" y="1004760"/>
            <a:ext cx="9018720" cy="48484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2"/>
          <a:stretch/>
        </p:blipFill>
        <p:spPr>
          <a:xfrm>
            <a:off x="1116000" y="22050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3"/>
          <a:stretch/>
        </p:blipFill>
        <p:spPr>
          <a:xfrm>
            <a:off x="1042920" y="429264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9" name="图片 1" descr=""/>
          <p:cNvPicPr/>
          <p:nvPr/>
        </p:nvPicPr>
        <p:blipFill>
          <a:blip r:embed="rId1"/>
          <a:stretch/>
        </p:blipFill>
        <p:spPr>
          <a:xfrm>
            <a:off x="474840" y="817560"/>
            <a:ext cx="8389800" cy="3827520"/>
          </a:xfrm>
          <a:prstGeom prst="rect">
            <a:avLst/>
          </a:prstGeom>
          <a:ln w="0">
            <a:noFill/>
          </a:ln>
        </p:spPr>
      </p:pic>
      <p:pic>
        <p:nvPicPr>
          <p:cNvPr id="1060" name="图片 2" descr=""/>
          <p:cNvPicPr/>
          <p:nvPr/>
        </p:nvPicPr>
        <p:blipFill>
          <a:blip r:embed="rId2"/>
          <a:stretch/>
        </p:blipFill>
        <p:spPr>
          <a:xfrm>
            <a:off x="414360" y="4645080"/>
            <a:ext cx="8313840" cy="192384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3"/>
          <a:stretch/>
        </p:blipFill>
        <p:spPr>
          <a:xfrm>
            <a:off x="971640" y="1052640"/>
            <a:ext cx="576000" cy="4492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4"/>
          <a:stretch/>
        </p:blipFill>
        <p:spPr>
          <a:xfrm>
            <a:off x="971640" y="3141720"/>
            <a:ext cx="576000" cy="4492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5"/>
          <a:stretch/>
        </p:blipFill>
        <p:spPr>
          <a:xfrm>
            <a:off x="900000" y="543096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6" name="图片 1" descr=""/>
          <p:cNvPicPr/>
          <p:nvPr/>
        </p:nvPicPr>
        <p:blipFill>
          <a:blip r:embed="rId1"/>
          <a:stretch/>
        </p:blipFill>
        <p:spPr>
          <a:xfrm>
            <a:off x="9360" y="1197000"/>
            <a:ext cx="9125280" cy="4124160"/>
          </a:xfrm>
          <a:prstGeom prst="rect">
            <a:avLst/>
          </a:prstGeom>
          <a:ln w="0">
            <a:noFill/>
          </a:ln>
        </p:spPr>
      </p:pic>
      <p:pic>
        <p:nvPicPr>
          <p:cNvPr id="1067" name="图片 2" descr=""/>
          <p:cNvPicPr/>
          <p:nvPr/>
        </p:nvPicPr>
        <p:blipFill>
          <a:blip r:embed="rId2"/>
          <a:stretch/>
        </p:blipFill>
        <p:spPr>
          <a:xfrm>
            <a:off x="642960" y="5472000"/>
            <a:ext cx="8294760" cy="121932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3"/>
          <a:stretch/>
        </p:blipFill>
        <p:spPr>
          <a:xfrm>
            <a:off x="4643280" y="2060640"/>
            <a:ext cx="1657440" cy="44928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4"/>
          <a:stretch/>
        </p:blipFill>
        <p:spPr>
          <a:xfrm>
            <a:off x="3132000" y="3414600"/>
            <a:ext cx="1657440" cy="44928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5"/>
          <a:stretch/>
        </p:blipFill>
        <p:spPr>
          <a:xfrm>
            <a:off x="1403280" y="4076640"/>
            <a:ext cx="1224000" cy="44928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6"/>
          <a:stretch/>
        </p:blipFill>
        <p:spPr>
          <a:xfrm>
            <a:off x="4500720" y="4076640"/>
            <a:ext cx="1223640" cy="44928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7"/>
          <a:stretch/>
        </p:blipFill>
        <p:spPr>
          <a:xfrm>
            <a:off x="3276720" y="5402160"/>
            <a:ext cx="718920" cy="44928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8"/>
          <a:stretch/>
        </p:blipFill>
        <p:spPr>
          <a:xfrm>
            <a:off x="3348000" y="6107040"/>
            <a:ext cx="107964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6" name="图片 1" descr=""/>
          <p:cNvPicPr/>
          <p:nvPr/>
        </p:nvPicPr>
        <p:blipFill>
          <a:blip r:embed="rId1"/>
          <a:stretch/>
        </p:blipFill>
        <p:spPr>
          <a:xfrm>
            <a:off x="800280" y="1380960"/>
            <a:ext cx="7543800" cy="409608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2"/>
          <a:stretch/>
        </p:blipFill>
        <p:spPr>
          <a:xfrm>
            <a:off x="1908000" y="22050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3"/>
          <a:stretch/>
        </p:blipFill>
        <p:spPr>
          <a:xfrm>
            <a:off x="1908000" y="289548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4"/>
          <a:stretch/>
        </p:blipFill>
        <p:spPr>
          <a:xfrm>
            <a:off x="1979640" y="357336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5"/>
          <a:stretch/>
        </p:blipFill>
        <p:spPr>
          <a:xfrm>
            <a:off x="1908000" y="42210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6"/>
          <a:stretch/>
        </p:blipFill>
        <p:spPr>
          <a:xfrm>
            <a:off x="1979640" y="494172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4" name="图片 1" descr=""/>
          <p:cNvPicPr/>
          <p:nvPr/>
        </p:nvPicPr>
        <p:blipFill>
          <a:blip r:embed="rId1"/>
          <a:stretch/>
        </p:blipFill>
        <p:spPr>
          <a:xfrm>
            <a:off x="857160" y="1547640"/>
            <a:ext cx="7429680" cy="37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43:09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